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23A-49D7-44F9-B630-11B93F7E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906-2139-449D-A67A-337C72C1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208-B9F7-4E09-95D3-A0ADB91A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9B0-A3D3-4F8E-8CE1-AB5C1414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C48-BE12-43CB-94CB-A878329E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BD2-370B-4F38-8416-0964BC89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9EE-4D3E-4EE6-9604-91130FAB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919-A0BF-4F1D-8823-BD17CE32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5B6-082F-4D50-9382-B6668C6B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131-922A-4FF2-878D-86751DEE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799-A5B0-40C3-82B4-7FCBB644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C43-7373-4A08-BC58-0A4EE580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218C-AE60-4B98-A766-B05289391CC8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01_김도유\북아트\작은도서관\그림1 사본.jpg"/>
          <p:cNvPicPr/>
          <p:nvPr/>
        </p:nvPicPr>
        <p:blipFill>
          <a:blip r:embed="rId1"/>
          <a:stretch/>
        </p:blipFill>
        <p:spPr>
          <a:xfrm>
            <a:off x="-423720" y="-176040"/>
            <a:ext cx="9991440" cy="72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01_김도유\북아트\작은도서관\그림2 사본.jpg"/>
          <p:cNvPicPr/>
          <p:nvPr/>
        </p:nvPicPr>
        <p:blipFill>
          <a:blip r:embed="rId1"/>
          <a:stretch/>
        </p:blipFill>
        <p:spPr>
          <a:xfrm>
            <a:off x="-600120" y="-185760"/>
            <a:ext cx="10344240" cy="72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01_김도유\북아트\작은도서관\그림1 사본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01_김도유\북아트\작은도서관\그림1 사본.jpg"/>
          <p:cNvPicPr/>
          <p:nvPr/>
        </p:nvPicPr>
        <p:blipFill>
          <a:blip r:embed="rId2"/>
          <a:stretch/>
        </p:blipFill>
        <p:spPr>
          <a:xfrm>
            <a:off x="4645080" y="0"/>
            <a:ext cx="4500360" cy="3357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01_김도유\북아트\작은도서관\그림1 사본.jpg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01_김도유\북아트\작은도서관\그림1 사본.jpg"/>
          <p:cNvPicPr/>
          <p:nvPr/>
        </p:nvPicPr>
        <p:blipFill>
          <a:blip r:embed="rId4"/>
          <a:stretch/>
        </p:blipFill>
        <p:spPr>
          <a:xfrm>
            <a:off x="4645080" y="3500280"/>
            <a:ext cx="4500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01_김도유\북아트\작은도서관\그림2 사본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01_김도유\북아트\작은도서관\그림2 사본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D:\01_김도유\북아트\작은도서관\그림2 사본.jpg"/>
          <p:cNvPicPr/>
          <p:nvPr/>
        </p:nvPicPr>
        <p:blipFill>
          <a:blip r:embed="rId3"/>
          <a:stretch/>
        </p:blipFill>
        <p:spPr>
          <a:xfrm>
            <a:off x="0" y="3529080"/>
            <a:ext cx="4643280" cy="335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01_김도유\북아트\작은도서관\그림2 사본.jpg"/>
          <p:cNvPicPr/>
          <p:nvPr/>
        </p:nvPicPr>
        <p:blipFill>
          <a:blip r:embed="rId4"/>
          <a:stretch/>
        </p:blipFill>
        <p:spPr>
          <a:xfrm>
            <a:off x="4500720" y="3529080"/>
            <a:ext cx="46432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4:01:01Z</dcterms:created>
  <dc:creator>k4</dc:creator>
  <dc:description/>
  <dc:language>en-US</dc:language>
  <cp:lastModifiedBy>k4</cp:lastModifiedBy>
  <dcterms:modified xsi:type="dcterms:W3CDTF">2012-11-06T14:11:57Z</dcterms:modified>
  <cp:revision>1</cp:revision>
  <dc:subject/>
  <dc:title>슬라이드 1</dc:title>
</cp:coreProperties>
</file>