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C32E-3C6C-42BC-9521-ED36A94DB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6AE0-DCEC-401A-A9A3-E105DA5F9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A5B-5FB5-497B-AEFA-FFFE43EE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1238-2AEC-4D8D-800A-80D062D0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9437-1CE5-49C8-AB21-9D4BB245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9EE-EE03-4504-B76B-C905D7F6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D480-EAAA-4020-A492-138BD7B9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21E5-D918-41ED-A625-24C99636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20AA-A110-4D9C-987A-04067EC7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F5DD-6B62-4C64-9FBF-4989E5BD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A8A6-E5BB-49A1-8921-1BBD7EAA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070-17BA-4865-B667-C4CFB812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41A0-6611-46C6-9C89-409EC30CB2DF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D:\01_김도유\북아트\작은도서관\그림1 사본.jpg"/>
          <p:cNvPicPr/>
          <p:nvPr/>
        </p:nvPicPr>
        <p:blipFill>
          <a:blip r:embed="rId1"/>
          <a:stretch/>
        </p:blipFill>
        <p:spPr>
          <a:xfrm>
            <a:off x="-423720" y="-176040"/>
            <a:ext cx="9991440" cy="72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:\01_김도유\북아트\작은도서관\그림2 사본.jpg"/>
          <p:cNvPicPr/>
          <p:nvPr/>
        </p:nvPicPr>
        <p:blipFill>
          <a:blip r:embed="rId1"/>
          <a:stretch/>
        </p:blipFill>
        <p:spPr>
          <a:xfrm>
            <a:off x="-600120" y="-185760"/>
            <a:ext cx="10344240" cy="72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01_김도유\북아트\작은도서관\그림1 사본.jpg"/>
          <p:cNvPicPr/>
          <p:nvPr/>
        </p:nvPicPr>
        <p:blipFill>
          <a:blip r:embed="rId1"/>
          <a:stretch/>
        </p:blipFill>
        <p:spPr>
          <a:xfrm>
            <a:off x="0" y="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D:\01_김도유\북아트\작은도서관\그림1 사본.jpg"/>
          <p:cNvPicPr/>
          <p:nvPr/>
        </p:nvPicPr>
        <p:blipFill>
          <a:blip r:embed="rId2"/>
          <a:stretch/>
        </p:blipFill>
        <p:spPr>
          <a:xfrm>
            <a:off x="4645080" y="0"/>
            <a:ext cx="4500360" cy="3357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D:\01_김도유\북아트\작은도서관\그림1 사본.jpg"/>
          <p:cNvPicPr/>
          <p:nvPr/>
        </p:nvPicPr>
        <p:blipFill>
          <a:blip r:embed="rId3"/>
          <a:stretch/>
        </p:blipFill>
        <p:spPr>
          <a:xfrm>
            <a:off x="0" y="3500280"/>
            <a:ext cx="4500720" cy="3357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D:\01_김도유\북아트\작은도서관\그림1 사본.jpg"/>
          <p:cNvPicPr/>
          <p:nvPr/>
        </p:nvPicPr>
        <p:blipFill>
          <a:blip r:embed="rId4"/>
          <a:stretch/>
        </p:blipFill>
        <p:spPr>
          <a:xfrm>
            <a:off x="4645080" y="3500280"/>
            <a:ext cx="4500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01_김도유\북아트\작은도서관\그림2 사본.jpg"/>
          <p:cNvPicPr/>
          <p:nvPr/>
        </p:nvPicPr>
        <p:blipFill>
          <a:blip r:embed="rId1"/>
          <a:stretch/>
        </p:blipFill>
        <p:spPr>
          <a:xfrm>
            <a:off x="0" y="0"/>
            <a:ext cx="4643280" cy="3357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D:\01_김도유\북아트\작은도서관\그림2 사본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357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D:\01_김도유\북아트\작은도서관\그림2 사본.jpg"/>
          <p:cNvPicPr/>
          <p:nvPr/>
        </p:nvPicPr>
        <p:blipFill>
          <a:blip r:embed="rId3"/>
          <a:stretch/>
        </p:blipFill>
        <p:spPr>
          <a:xfrm>
            <a:off x="0" y="3529080"/>
            <a:ext cx="4643280" cy="335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D:\01_김도유\북아트\작은도서관\그림2 사본.jpg"/>
          <p:cNvPicPr/>
          <p:nvPr/>
        </p:nvPicPr>
        <p:blipFill>
          <a:blip r:embed="rId4"/>
          <a:stretch/>
        </p:blipFill>
        <p:spPr>
          <a:xfrm>
            <a:off x="4500720" y="3529080"/>
            <a:ext cx="46432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4:01:01Z</dcterms:created>
  <dc:creator>k4</dc:creator>
  <dc:description/>
  <dc:language>en-US</dc:language>
  <cp:lastModifiedBy>k4</cp:lastModifiedBy>
  <dcterms:modified xsi:type="dcterms:W3CDTF">2012-11-06T14:11:57Z</dcterms:modified>
  <cp:revision>1</cp:revision>
  <dc:subject/>
  <dc:title>슬라이드 1</dc:title>
</cp:coreProperties>
</file>