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937-3D88-4C6D-8A89-E0FCD2D8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F74-D60A-4C34-A484-ED93D99E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6DE-E5CB-4090-AE77-94BE30E7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7A6-E08C-4095-8E7C-CD1658F0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A02-8204-47CC-BB97-0286A1EA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946-20A0-45EF-BDA1-080AA8D3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DD0-F919-4205-92EB-E5E7F38E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658-B4A7-417A-89FF-41028E2C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091-9556-4BB6-A061-FBDC9CEC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2B0-FEC6-4E1C-BA5A-5037EA1F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2C1-8D67-436E-9C01-E0095DF3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C51-5BAD-4966-91FB-AB2D2663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FAAF-DDD4-4AF7-87E7-126BD1DF0972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01_김도유\북아트\작은도서관\그림1 사본.jpg"/>
          <p:cNvPicPr/>
          <p:nvPr/>
        </p:nvPicPr>
        <p:blipFill>
          <a:blip r:embed="rId1"/>
          <a:stretch/>
        </p:blipFill>
        <p:spPr>
          <a:xfrm>
            <a:off x="-423720" y="-176040"/>
            <a:ext cx="9991440" cy="72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01_김도유\북아트\작은도서관\그림2 사본.jpg"/>
          <p:cNvPicPr/>
          <p:nvPr/>
        </p:nvPicPr>
        <p:blipFill>
          <a:blip r:embed="rId1"/>
          <a:stretch/>
        </p:blipFill>
        <p:spPr>
          <a:xfrm>
            <a:off x="-600120" y="-185760"/>
            <a:ext cx="10344240" cy="72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01_김도유\북아트\작은도서관\그림1 사본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01_김도유\북아트\작은도서관\그림1 사본.jpg"/>
          <p:cNvPicPr/>
          <p:nvPr/>
        </p:nvPicPr>
        <p:blipFill>
          <a:blip r:embed="rId2"/>
          <a:stretch/>
        </p:blipFill>
        <p:spPr>
          <a:xfrm>
            <a:off x="4645080" y="0"/>
            <a:ext cx="4500360" cy="3357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01_김도유\북아트\작은도서관\그림1 사본.jpg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01_김도유\북아트\작은도서관\그림1 사본.jpg"/>
          <p:cNvPicPr/>
          <p:nvPr/>
        </p:nvPicPr>
        <p:blipFill>
          <a:blip r:embed="rId4"/>
          <a:stretch/>
        </p:blipFill>
        <p:spPr>
          <a:xfrm>
            <a:off x="4645080" y="3500280"/>
            <a:ext cx="4500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01_김도유\북아트\작은도서관\그림2 사본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01_김도유\북아트\작은도서관\그림2 사본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D:\01_김도유\북아트\작은도서관\그림2 사본.jpg"/>
          <p:cNvPicPr/>
          <p:nvPr/>
        </p:nvPicPr>
        <p:blipFill>
          <a:blip r:embed="rId3"/>
          <a:stretch/>
        </p:blipFill>
        <p:spPr>
          <a:xfrm>
            <a:off x="0" y="3529080"/>
            <a:ext cx="4643280" cy="335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01_김도유\북아트\작은도서관\그림2 사본.jpg"/>
          <p:cNvPicPr/>
          <p:nvPr/>
        </p:nvPicPr>
        <p:blipFill>
          <a:blip r:embed="rId4"/>
          <a:stretch/>
        </p:blipFill>
        <p:spPr>
          <a:xfrm>
            <a:off x="4500720" y="3529080"/>
            <a:ext cx="46432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4:01:01Z</dcterms:created>
  <dc:creator>k4</dc:creator>
  <dc:description/>
  <dc:language>en-US</dc:language>
  <cp:lastModifiedBy>k4</cp:lastModifiedBy>
  <dcterms:modified xsi:type="dcterms:W3CDTF">2012-11-06T14:11:57Z</dcterms:modified>
  <cp:revision>1</cp:revision>
  <dc:subject/>
  <dc:title>슬라이드 1</dc:title>
</cp:coreProperties>
</file>